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DF8-A7C7-4546-AD4A-D907BB85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143-3F87-4A4B-AF6D-C94E205D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578-1C98-4330-A437-ABE1789B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833-0CC9-47D8-B7FC-A6C86E13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E06-6C72-4CA2-97A7-F6E6FA54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7742-8635-480B-BDFC-300257A7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669A-AC0B-4A8B-935F-284923DF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6DF2-9853-4FA7-BF99-EA9EF3D1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7DD7-DC18-428E-98D3-0C64DD42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23BA-94DA-4356-94FA-99DBD642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3261-4F4B-4D20-AF23-C06D2270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8F8-BF05-4090-961C-1A027B64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A476-46EC-47C3-BBE0-BFF287F7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5D89-8856-4A73-BD9B-A8C8D52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69BD-5C67-47F1-83AE-111EABF0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4691-776A-4828-87F6-6335C6B8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2C5C-13F4-4B06-ACEE-84FF3742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250-67B3-4C13-B92B-153DEBA3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10A-BF06-4B78-AE16-2E88B5E3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C51-DEDF-4B98-990C-1016F52D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0CE-7AAE-4A65-831B-82847F17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256-29ED-4194-AF88-44687B5E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451-CE04-45E9-9F7B-1EA0245C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C84-84B9-4672-853D-7EC89A73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31bc1a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474B-590D-457F-BC82-5168A9D6A231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A0F9-8545-4AF6-90A8-C35DDF0C2C08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31bc1a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ll personal essays have a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ual purpose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, for the writer to clarify, preserve and/or come to terms with his/her reactions to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life experienc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, for the audience, that by sharing in the writer's experience (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empathy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) they may enlarge their own experience and realize their common humanity. “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There is only one world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NIVERSALITY of humanity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 rot="1212600">
            <a:off x="7162560" y="380520"/>
            <a:ext cx="177948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533520"/>
            <a:ext cx="7157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GOOD DESCRI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good description must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leave sensory impressions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using concrete sensory detail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20840" indent="-420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t must create a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ominant impression or mood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through the selection of detail and the connotations of the word choice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20840" indent="-420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ood descriptive writing expresses a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reative vision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by making the reader "see as never before"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455400">
            <a:off x="6916320" y="326520"/>
            <a:ext cx="22096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3 methods of organization: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901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Spatial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901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Chronological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901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Cause-Effect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31654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Most common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416160" indent="-41616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Can be from…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ight to lef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p to dow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ose up to far awa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most prominent to least promine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16160" indent="-41616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Can be a </a:t>
            </a: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ving</a:t>
            </a: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 point of view or </a:t>
            </a: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fixed</a:t>
            </a: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2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3" name="" descr="Artist's concept of the Milky Way galaxy, with the 'galactic bar' visible in the center."/>
          <p:cNvPicPr/>
          <p:nvPr/>
        </p:nvPicPr>
        <p:blipFill>
          <a:blip r:embed="rId1"/>
          <a:stretch/>
        </p:blipFill>
        <p:spPr>
          <a:xfrm rot="2510400">
            <a:off x="5333760" y="83772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ronolog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equires a description of something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Arial"/>
              </a:rPr>
              <a:t>changes over a span of time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an also use spatial techniques (moving across a place over time)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2033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use-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equires a description of a series of actions </a:t>
            </a: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in order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This often becomes a Narration rather tha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a Description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00800" y="4267080"/>
            <a:ext cx="24670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OL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9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Arial"/>
              </a:rPr>
              <a:t>Often there will be a </a:t>
            </a:r>
            <a:r>
              <a:rPr b="1" lang="en-US" sz="3800" spc="-1" strike="noStrike">
                <a:solidFill>
                  <a:srgbClr val="f8f8f8"/>
                </a:solidFill>
                <a:latin typeface="Arial"/>
              </a:rPr>
              <a:t>shift point (volta)</a:t>
            </a:r>
            <a:r>
              <a:rPr b="0" lang="en-US" sz="3800" spc="-1" strike="noStrike">
                <a:solidFill>
                  <a:srgbClr val="f8f8f8"/>
                </a:solidFill>
                <a:latin typeface="Arial"/>
              </a:rPr>
              <a:t> somewhere in the piece where the writer's attitude or tone or stance or the mood changes significantly</a:t>
            </a:r>
            <a:endParaRPr b="0" lang="en-US" sz="3800" spc="-1" strike="noStrike">
              <a:solidFill>
                <a:srgbClr val="f8f8f8"/>
              </a:solidFill>
              <a:latin typeface="Arial"/>
            </a:endParaRPr>
          </a:p>
          <a:p>
            <a:pPr marL="429840" indent="-429840">
              <a:spcBef>
                <a:spcPts val="9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Arial"/>
              </a:rPr>
              <a:t>Usually there will be clear signals for this shift.</a:t>
            </a:r>
            <a:endParaRPr b="0" lang="en-US" sz="3800" spc="-1" strike="noStrike">
              <a:solidFill>
                <a:srgbClr val="f8f8f8"/>
              </a:solidFill>
              <a:latin typeface="Arial"/>
            </a:endParaRPr>
          </a:p>
          <a:p>
            <a:pPr marL="42984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568200">
            <a:off x="5943240" y="0"/>
            <a:ext cx="2184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gn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unctuation (.  ,  ;  !   ?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aragraphing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turn word or phrase--"suddenly"; "meanwhile" or something more subt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A change in the pattern of connotation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shift in the point of view--one common shift is a change in the time frame, from "as I saw it then" to "looking back on it now".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21:58:45Z</dcterms:created>
  <dc:creator>\]</dc:creator>
  <dc:description/>
  <dc:language>en-US</dc:language>
  <cp:lastModifiedBy>\]</cp:lastModifiedBy>
  <dcterms:modified xsi:type="dcterms:W3CDTF">2008-09-12T21:20:52Z</dcterms:modified>
  <cp:revision>5</cp:revision>
  <dc:subject/>
  <dc:title>DESCRIPTION CHAPTER LECTURE </dc:title>
</cp:coreProperties>
</file>